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8.jpeg" ContentType="image/jpeg"/>
  <Override PartName="/ppt/media/image73.png" ContentType="image/png"/>
  <Override PartName="/ppt/media/image57.jpeg" ContentType="image/jpeg"/>
  <Override PartName="/ppt/media/image60.gif" ContentType="image/gif"/>
  <Override PartName="/ppt/media/image54.jpeg" ContentType="image/jpeg"/>
  <Override PartName="/ppt/media/image33.png" ContentType="image/png"/>
  <Override PartName="/ppt/media/image49.jpeg" ContentType="image/jpeg"/>
  <Override PartName="/ppt/media/image8.gif" ContentType="image/gif"/>
  <Override PartName="/ppt/media/image48.jpeg" ContentType="image/jpeg"/>
  <Override PartName="/ppt/media/image75.gif" ContentType="image/gif"/>
  <Override PartName="/ppt/media/image53.jpeg" ContentType="image/jpeg"/>
  <Override PartName="/ppt/media/image23.png" ContentType="image/png"/>
  <Override PartName="/ppt/media/image47.gif" ContentType="image/gif"/>
  <Override PartName="/ppt/media/image26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gif" ContentType="image/gif"/>
  <Override PartName="/ppt/media/image5.jpeg" ContentType="image/jpeg"/>
  <Override PartName="/ppt/media/image36.jpeg" ContentType="image/jpeg"/>
  <Override PartName="/ppt/media/image2.jpeg" ContentType="image/jpeg"/>
  <Override PartName="/ppt/media/image11.png" ContentType="image/png"/>
  <Override PartName="/ppt/media/image9.jpeg" ContentType="image/jpeg"/>
  <Override PartName="/ppt/media/image3.jpeg" ContentType="image/jpeg"/>
  <Override PartName="/ppt/media/image67.png" ContentType="image/png"/>
  <Override PartName="/ppt/media/image24.jpeg" ContentType="image/jpeg"/>
  <Override PartName="/ppt/media/image66.jpeg" ContentType="image/jpeg"/>
  <Override PartName="/ppt/media/image59.png" ContentType="image/png"/>
  <Override PartName="/ppt/media/image4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20.jpeg" ContentType="image/jpeg"/>
  <Override PartName="/ppt/media/image77.png" ContentType="image/png"/>
  <Override PartName="/ppt/media/image74.png" ContentType="image/png"/>
  <Override PartName="/ppt/media/image61.jpeg" ContentType="image/jpeg"/>
  <Override PartName="/ppt/media/image64.jpeg" ContentType="image/jpeg"/>
  <Override PartName="/ppt/media/image7.jpeg" ContentType="image/jpeg"/>
  <Override PartName="/ppt/media/image71.jpeg" ContentType="image/jpeg"/>
  <Override PartName="/ppt/media/image32.jpeg" ContentType="image/jpeg"/>
  <Override PartName="/ppt/media/image70.jpeg" ContentType="image/jpeg"/>
  <Override PartName="/ppt/media/image65.jpeg" ContentType="image/jpeg"/>
  <Override PartName="/ppt/media/image17.png" ContentType="image/png"/>
  <Override PartName="/ppt/media/image39.jpeg" ContentType="image/jpeg"/>
  <Override PartName="/ppt/media/image21.jpeg" ContentType="image/jpeg"/>
  <Override PartName="/ppt/media/image69.jpeg" ContentType="image/jpeg"/>
  <Override PartName="/ppt/media/image25.jpeg" ContentType="image/jpeg"/>
  <Override PartName="/ppt/media/image68.jpeg" ContentType="image/jpeg"/>
  <Override PartName="/ppt/media/image62.jpeg" ContentType="image/jpeg"/>
  <Override PartName="/ppt/media/image19.png" ContentType="image/png"/>
  <Override PartName="/ppt/media/image4.gif" ContentType="image/gif"/>
  <Override PartName="/ppt/media/image22.jpeg" ContentType="image/jpeg"/>
  <Override PartName="/ppt/media/image63.jpeg" ContentType="image/jpeg"/>
  <Override PartName="/ppt/media/image6.jpeg" ContentType="image/jpeg"/>
  <Override PartName="/ppt/media/image50.jpeg" ContentType="image/jpeg"/>
  <Override PartName="/ppt/media/image1.png" ContentType="image/png"/>
  <Override PartName="/ppt/media/image52.jpeg" ContentType="image/jpeg"/>
  <Override PartName="/ppt/media/image38.jpeg" ContentType="image/jpeg"/>
  <Override PartName="/ppt/media/image72.png" ContentType="image/png"/>
  <Override PartName="/ppt/media/image27.jpeg" ContentType="image/jpeg"/>
  <Override PartName="/ppt/media/image10.jpeg" ContentType="image/jpeg"/>
  <Override PartName="/ppt/media/image28.jpeg" ContentType="image/jpeg"/>
  <Override PartName="/ppt/media/image18.jpeg" ContentType="image/jpeg"/>
  <Override PartName="/ppt/media/image12.png" ContentType="image/png"/>
  <Override PartName="/ppt/media/image13.jpeg" ContentType="image/jpeg"/>
  <Override PartName="/ppt/media/image51.gif" ContentType="image/gif"/>
  <Override PartName="/ppt/media/image76.jpeg" ContentType="image/jpeg"/>
  <Override PartName="/ppt/media/image30.jpeg" ContentType="image/jpeg"/>
  <Override PartName="/ppt/media/image29.jpeg" ContentType="image/jpeg"/>
  <Override PartName="/ppt/media/image37.wmf" ContentType="image/x-wmf"/>
  <Override PartName="/ppt/media/image31.jpeg" ContentType="image/jpeg"/>
  <Override PartName="/ppt/media/image55.jpeg" ContentType="image/jpeg"/>
  <Override PartName="/ppt/media/image40.gif" ContentType="image/gif"/>
  <Override PartName="/ppt/media/image56.jpeg" ContentType="image/jpeg"/>
  <Override PartName="/ppt/media/image34.png" ContentType="image/png"/>
  <Override PartName="/ppt/media/image35.jpeg" ContentType="image/jpeg"/>
  <Override PartName="/ppt/media/image4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7FC6-8210-4ED2-83A4-A96DB2864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5746-BAE8-4E17-8DD2-303E87F22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rockwoodwaterandgas.com/sitebuildercontent/sitebuilderpictures/.pond/SAFETY.jpg.w300h388.jp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http://68.90.81.6/ScienceTAKS/Integration/Science%2520TAKS%2520Objective%25201/safety4.jpg&amp;imgrefurl=http://68.90.81.6/ScienceTAKS/Integration/Science%2520TAKS%2520Objective%25201/safetysymbols.htm&amp;h=95&amp;w=93&amp;sz=3&amp;hl=en&amp;start=32&amp;um=1&amp;tbnid=AOIrcMWCY6-NPM:&amp;tbnh=80&amp;tbnw=78&amp;prev=/images%3Fq%3DLab%2BSafety%2BSymbols%26start%3D20%26ndsp%3D20%26svnum%3D10%26um%3D1%26hl%3Den%26rls%3DGGLB,GGLB:1969-53,GGLB:en%26sa%3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7F7D-3DF1-42FA-842C-EA02043B0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http://www.cartoonstock.com/newscartoons/cartoonists/mfl/lowres/mfln160l.jpg&amp;imgrefurl=http://www.cartoonstock.com/directory/s/science_lab.asp&amp;h=400&amp;w=370&amp;sz=27&amp;hl=en&amp;start=2&amp;um=1&amp;tbnid=XdURqFQR7vf2GM:&amp;tbnh=124&amp;tbnw=115&amp;prev=/images%3Fq%3Dscience%2Blab%2Bsafety%2Bicons%26svnum%3D10%26um%3D1%26hl%3Den%26rls%3DGGLB,GGLB:1969-53,GGLB:en%26sa%3D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9291-47FD-4D2D-924B-08627DEBB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http://68.90.81.6/ScienceTAKS/Integration/Science%2520TAKS%2520Objective%25201/safety4.jpg&amp;imgrefurl=http://68.90.81.6/ScienceTAKS/Integration/Science%2520TAKS%2520Objective%25201/safetysymbols.htm&amp;h=95&amp;w=93&amp;sz=3&amp;hl=en&amp;start=32&amp;um=1&amp;tbnid=AOIrcMWCY6-NPM:&amp;tbnh=80&amp;tbnw=78&amp;prev=/images%3Fq%3DLab%2BSafety%2BSymbols%26start%3D20%26ndsp%3D20%26svnum%3D10%26um%3D1%26hl%3Den%26rls%3DGGLB,GGLB:1969-53,GGLB:en%26sa%3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1D38-CBF8-45FE-B57A-45E28513C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http://68.90.81.6/ScienceTAKS/Integration/Science%2520TAKS%2520Objective%25201/safety4.jpg&amp;imgrefurl=http://68.90.81.6/ScienceTAKS/Integration/Science%2520TAKS%2520Objective%25201/safetysymbols.htm&amp;h=95&amp;w=93&amp;sz=3&amp;hl=en&amp;start=32&amp;um=1&amp;tbnid=AOIrcMWCY6-NPM:&amp;tbnh=80&amp;tbnw=78&amp;prev=/images%3Fq%3DLab%2BSafety%2BSymbols%26start%3D20%26ndsp%3D20%26svnum%3D10%26um%3D1%26hl%3Den%26rls%3DGGLB,GGLB:1969-53,GGLB:en%26sa%3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5773-0E7B-41CF-B18E-E989C7C4B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http://68.90.81.6/ScienceTAKS/Integration/Science%2520TAKS%2520Objective%25201/safety4.jpg&amp;imgrefurl=http://68.90.81.6/ScienceTAKS/Integration/Science%2520TAKS%2520Objective%25201/safetysymbols.htm&amp;h=95&amp;w=93&amp;sz=3&amp;hl=en&amp;start=32&amp;um=1&amp;tbnid=AOIrcMWCY6-NPM:&amp;tbnh=80&amp;tbnw=78&amp;prev=/images%3Fq%3DLab%2BSafety%2BSymbols%26start%3D20%26ndsp%3D20%26svnum%3D10%26um%3D1%26hl%3Den%26rls%3DGGLB,GGLB:1969-53,GGLB:en%26sa%3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288B-21FB-4BFE-802F-73F78818B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http://68.90.81.6/ScienceTAKS/Integration/Science%2520TAKS%2520Objective%25201/safety4.jpg&amp;imgrefurl=http://68.90.81.6/ScienceTAKS/Integration/Science%2520TAKS%2520Objective%25201/safetysymbols.htm&amp;h=95&amp;w=93&amp;sz=3&amp;hl=en&amp;start=32&amp;um=1&amp;tbnid=AOIrcMWCY6-NPM:&amp;tbnh=80&amp;tbnw=78&amp;prev=/images%3Fq%3DLab%2BSafety%2BSymbols%26start%3D20%26ndsp%3D20%26svnum%3D10%26um%3D1%26hl%3Den%26rls%3DGGLB,GGLB:1969-53,GGLB:en%26sa%3D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artoonstock.com/newscartoons/cartoonists/rha/lowres/rhan190l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463F-ABBB-47E7-93B5-89708A69E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1876-04E2-437A-89E3-6C7ED6F6E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CD7F-E853-4F4A-B492-5C7A606E7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http://68.90.81.6/ScienceTAKS/Integration/Science%2520TAKS%2520Objective%25201/safety4.jpg&amp;imgrefurl=http://68.90.81.6/ScienceTAKS/Integration/Science%2520TAKS%2520Objective%25201/safetysymbols.htm&amp;h=95&amp;w=93&amp;sz=3&amp;hl=en&amp;start=32&amp;um=1&amp;tbnid=AOIrcMWCY6-NPM:&amp;tbnh=80&amp;tbnw=78&amp;prev=/images%3Fq%3DLab%2BSafety%2BSymbols%26start%3D20%26ndsp%3D20%26svnum%3D10%26um%3D1%26hl%3Den%26rls%3DGGLB,GGLB:1969-53,GGLB:en%26sa%3D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tah.edu/facilities/safety/18chood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1F8A-F3E8-42AD-B4E5-E95A82B9B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http://68.90.81.6/ScienceTAKS/Integration/Science%2520TAKS%2520Objective%25201/safety4.jpg&amp;imgrefurl=http://68.90.81.6/ScienceTAKS/Integration/Science%2520TAKS%2520Objective%25201/safetysymbols.htm&amp;h=95&amp;w=93&amp;sz=3&amp;hl=en&amp;start=32&amp;um=1&amp;tbnid=AOIrcMWCY6-NPM:&amp;tbnh=80&amp;tbnw=78&amp;prev=/images%3Fq%3DLab%2BSafety%2BSymbols%26start%3D20%26ndsp%3D20%26svnum%3D10%26um%3D1%26hl%3Den%26rls%3DGGLB,GGLB:1969-53,GGLB:en%26sa%3D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tah.edu/facilities/safety/18chood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EFFB-AD77-4FF3-A7D0-F1C745CB1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http://68.90.81.6/ScienceTAKS/Integration/Science%2520TAKS%2520Objective%25201/safety4.jpg&amp;imgrefurl=http://68.90.81.6/ScienceTAKS/Integration/Science%2520TAKS%2520Objective%25201/safetysymbols.htm&amp;h=95&amp;w=93&amp;sz=3&amp;hl=en&amp;start=32&amp;um=1&amp;tbnid=AOIrcMWCY6-NPM:&amp;tbnh=80&amp;tbnw=78&amp;prev=/images%3Fq%3DLab%2BSafety%2BSymbols%26start%3D20%26ndsp%3D20%26svnum%3D10%26um%3D1%26hl%3Den%26rls%3DGGLB,GGLB:1969-53,GGLB:en%26sa%3D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nkycircus.com/jargon/images/guineapig_5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C737-F103-46FD-8650-5ADCE25DA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http://68.90.81.6/ScienceTAKS/Integration/Science%2520TAKS%2520Objective%25201/safety4.jpg&amp;imgrefurl=http://68.90.81.6/ScienceTAKS/Integration/Science%2520TAKS%2520Objective%25201/safetysymbols.htm&amp;h=95&amp;w=93&amp;sz=3&amp;hl=en&amp;start=32&amp;um=1&amp;tbnid=AOIrcMWCY6-NPM:&amp;tbnh=80&amp;tbnw=78&amp;prev=/images%3Fq%3DLab%2BSafety%2BSymbols%26start%3D20%26ndsp%3D20%26svnum%3D10%26um%3D1%26hl%3Den%26rls%3DGGLB,GGLB:1969-53,GGLB:en%26sa%3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F33F-9DAB-4082-BDAD-2FE3A4ED3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taffwww.fullcoll.edu/jchadwick/science2.gi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http://68.90.81.6/ScienceTAKS/Integration/Science%2520TAKS%2520Objective%25201/safety4.jpg&amp;imgrefurl=http://68.90.81.6/ScienceTAKS/Integration/Science%2520TAKS%2520Objective%25201/safetysymbols.htm&amp;h=95&amp;w=93&amp;sz=3&amp;hl=en&amp;start=32&amp;um=1&amp;tbnid=AOIrcMWCY6-NPM:&amp;tbnh=80&amp;tbnw=78&amp;prev=/images%3Fq%3DLab%2BSafety%2BSymbols%26start%3D20%26ndsp%3D20%26svnum%3D10%26um%3D1%26hl%3Den%26rls%3DGGLB,GGLB:1969-53,GGLB:en%26sa%3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C009-B217-4369-9889-9B4EBC3E3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http://68.90.81.6/ScienceTAKS/Integration/Science%2520TAKS%2520Objective%25201/safety4.jpg&amp;imgrefurl=http://68.90.81.6/ScienceTAKS/Integration/Science%2520TAKS%2520Objective%25201/safetysymbols.htm&amp;h=95&amp;w=93&amp;sz=3&amp;hl=en&amp;start=32&amp;um=1&amp;tbnid=AOIrcMWCY6-NPM:&amp;tbnh=80&amp;tbnw=78&amp;prev=/images%3Fq%3DLab%2BSafety%2BSymbols%26start%3D20%26ndsp%3D20%26svnum%3D10%26um%3D1%26hl%3Den%26rls%3DGGLB,GGLB:1969-53,GGLB:en%26sa%3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1389-9DA8-4537-A745-23AB38F06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D2E7-DFCD-431F-96EF-271DE8C89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http://68.90.81.6/ScienceTAKS/Integration/Science%2520TAKS%2520Objective%25201/safety4.jpg&amp;imgrefurl=http://68.90.81.6/ScienceTAKS/Integration/Science%2520TAKS%2520Objective%25201/safetysymbols.htm&amp;h=95&amp;w=93&amp;sz=3&amp;hl=en&amp;start=32&amp;um=1&amp;tbnid=AOIrcMWCY6-NPM:&amp;tbnh=80&amp;tbnw=78&amp;prev=/images%3Fq%3DLab%2BSafety%2BSymbols%26start%3D20%26ndsp%3D20%26svnum%3D10%26um%3D1%26hl%3Den%26rls%3DGGLB,GGLB:1969-53,GGLB:en%26sa%3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B8F5-7B11-4535-8E21-703E1244E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artoonstock.com/lowres/sea0209l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5ECA-8724-44A2-AE7B-69B23DC3F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B27F-185D-47D9-BA47-5CDA6A42E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E0A7-6EAF-460F-92A2-00CCF114D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linn.edu/brazos/natscience/lab/man.gi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http://www.morrisonlabs.com/images/lab%2520safety/labkidsmistakes.jpg&amp;imgrefurl=http://www.morrisonlabs.com/lab_safety.htm&amp;h=319&amp;w=600&amp;sz=32&amp;hl=en&amp;start=101&amp;um=1&amp;tbnid=ijK8pYVbZiTVaM:&amp;tbnh=72&amp;tbnw=135&amp;prev=/images%3Fq%3Dlab%2Bsafety%2Bimages%26start%3D100%26ndsp%3D20%26svnum%3D10%26um%3D1%26hl%3Den%26rls%3DGGLB,GGLB:1969-53,GGLB:en%26sa%3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D578-A683-42E4-AB9F-3D18AE541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http://www.utpb.edu/utpb_adm/BusinessAffairs/OfficeOfEHS/images/safety_main.jpg&amp;imgrefurl=http://www.utpb.edu/utpb_adm/BusinessAffairs/OfficeOfEHS/index_frame.htm&amp;h=360&amp;w=358&amp;sz=49&amp;tbnid=M4hbjYJ8bTeETM:&amp;tbnh=121&amp;tbnw=120&amp;prev=/images%3Fq%3Dsafety%2Bimages%26um%3D1&amp;start=1&amp;sa=X&amp;oi=images&amp;ct=image&amp;cd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A787-659F-4990-AC70-F052BFF66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BD05-D0A0-4ECA-AF67-DEEA966B8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B8DA-C530-49F3-B03A-599BEDF3E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http://www.morrisonlabs.com/images/lab%2520safety/labkidsmistakes.jpg&amp;imgrefurl=http://www.morrisonlabs.com/lab_safety.htm&amp;h=319&amp;w=600&amp;sz=32&amp;hl=en&amp;start=101&amp;um=1&amp;tbnid=ijK8pYVbZiTVaM:&amp;tbnh=72&amp;tbnw=135&amp;prev=/images%3Fq%3Dlab%2Bsafety%2Bimages%26start%3D100%26ndsp%3D20%26svnum%3D10%26um%3D1%26hl%3Den%26rls%3DGGLB,GGLB:1969-53,GGLB:en%26sa%3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E54B-AD14-4F68-86D3-0C9BAE63E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http://www.morrisonlabs.com/images/lab%2520safety/labkidsmistakes.jpg&amp;imgrefurl=http://www.morrisonlabs.com/lab_safety.htm&amp;h=319&amp;w=600&amp;sz=32&amp;hl=en&amp;start=101&amp;um=1&amp;tbnid=ijK8pYVbZiTVaM:&amp;tbnh=72&amp;tbnw=135&amp;prev=/images%3Fq%3Dlab%2Bsafety%2Bimages%26start%3D100%26ndsp%3D20%26svnum%3D10%26um%3D1%26hl%3Den%26rls%3DGGLB,GGLB:1969-53,GGLB:en%26sa%3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B0A1-C7E3-4BE5-BF5F-768F02798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http://sme.clc.uc.edu/labsafety/Amy%2520%26%2520Shower.JPG&amp;imgrefurl=http://sme.clc.uc.edu/labsafety/index.htm&amp;h=400&amp;w=400&amp;sz=166&amp;hl=en&amp;start=41&amp;um=1&amp;tbnid=kaMEXKY4mzKodM:&amp;tbnh=124&amp;tbnw=124&amp;prev=/images%3Fq%3Dlab%2Bsafety%2Bimages%26start%3D40%26ndsp%3D20%26svnum%3D10%26um%3D1%26hl%3Den%26rls%3DGGLB,GGLB:1969-53,GGLB:en%26sa%3D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http://www.morrisonlabs.com/images/lab%2520safety/labkidsmistakes.jpg&amp;imgrefurl=http://www.morrisonlabs.com/lab_safety.htm&amp;h=319&amp;w=600&amp;sz=32&amp;hl=en&amp;start=101&amp;um=1&amp;tbnid=ijK8pYVbZiTVaM:&amp;tbnh=72&amp;tbnw=135&amp;prev=/images%3Fq%3Dlab%2Bsafety%2Bimages%26start%3D100%26ndsp%3D20%26svnum%3D10%26um%3D1%26hl%3Den%26rls%3DGGLB,GGLB:1969-53,GGLB:en%26sa%3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57F3-4D9F-45D3-9459-83E214C6F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http://68.90.81.6/ScienceTAKS/Integration/Science%2520TAKS%2520Objective%25201/safety4.jpg&amp;imgrefurl=http://68.90.81.6/ScienceTAKS/Integration/Science%2520TAKS%2520Objective%25201/safetysymbols.htm&amp;h=95&amp;w=93&amp;sz=3&amp;hl=en&amp;start=32&amp;um=1&amp;tbnid=AOIrcMWCY6-NPM:&amp;tbnh=80&amp;tbnw=78&amp;prev=/images%3Fq%3DLab%2BSafety%2BSymbols%26start%3D20%26ndsp%3D20%26svnum%3D10%26um%3D1%26hl%3Den%26rls%3DGGLB,GGLB:1969-53,GGLB:en%26sa%3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1079-4236-4C0F-B07E-17275A31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B109-9B57-4A48-973A-95EC9057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5363-23A8-4B5C-99AE-2585B1CC0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4FB4-D248-4A17-9088-12EEFD6F8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C78C-12A0-4F04-A0F0-D10CAF90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95E1-7222-4BA6-8F22-47E5F0CB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A194-7F36-459F-83AC-15D456C1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89DC-BAD7-4200-AAB4-5E3DCFAC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8602-DAC6-4D9D-A321-19237113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B7F5-1A3E-4B3F-A94E-DEB83174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F4EF-A7D8-4CF6-AC01-1C7A2C7E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96AF-359E-4F43-B568-618588EA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5E6F-ACD6-4292-8F13-FD191378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4CA8-5E9D-451D-AC0D-B345E8DA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A8FD-AD89-402D-BB88-E571B244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8783-9BE4-4C66-9A35-E66A65FB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F7AF-D97C-4210-BD3C-939E26C5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2E21-C2CE-4078-99AF-8FABD8D8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2E94-CB02-456B-BDEB-347AA381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7660-D24D-4A49-8D0F-774815C3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477B-796B-4595-B294-5813A992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0EA1-D24A-4BEB-9CBA-D5B57827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22D1-8B27-4803-ABED-5C9851EA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D3C6-CF26-44CC-841A-3DE61AD6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3C9B-9735-4A88-B341-C551E40F6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38C7-2663-4717-8DC7-77646B8CC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images.google.com/imgres?imgurl=http://www.foodprotection.org/images/Icons/HANDWASH_TN.GIF&amp;imgrefurl=http://www.foodprotection.org/aboutIAFP/IconMain.asp&amp;h=157&amp;w=150&amp;sz=3&amp;tbnid=z8ZMmVYM_8EpkM:&amp;tbnh=97&amp;tbnw=93&amp;prev=/images%3Fq%3Dsafety%2Bicons%26um%3D1&amp;start=2&amp;sa=X&amp;oi=images&amp;ct=image&amp;cd=2" TargetMode="External"/><Relationship Id="rId3" Type="http://schemas.openxmlformats.org/officeDocument/2006/relationships/image" Target="../media/image25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hyperlink" Target="http://images.google.com/imgres?imgurl=http://mark.stosberg.com/Juggle/knive_under_leg_mp.jpg&amp;imgrefurl=http://www.stosberg.com/Juggle/&amp;h=876&amp;w=1059&amp;sz=116&amp;hl=en&amp;start=7&amp;um=1&amp;tbnid=3ae-vm5TNoE7SM:&amp;tbnh=124&amp;tbnw=150&amp;prev=/images%3Fq%3Dknife%2Bjuggling%26svnum%3D10%26um%3D1%26hl%3Den%26rls%3DGGLB,GGLB:1969-53,GGLB:en%26sa%3DN" TargetMode="External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9.jpeg"/><Relationship Id="rId3" Type="http://schemas.openxmlformats.org/officeDocument/2006/relationships/hyperlink" Target="http://images.google.com/imgres?imgurl=http://www.biggamehunt.net/graphics/photos_talltales/knife_basics_2.gif&amp;imgrefurl=http://www.biggamehunt.net/sections/Off_Season/Hunting_Knife_Basics_06280412.html&amp;h=521&amp;w=400&amp;sz=22&amp;hl=en&amp;start=25&amp;um=1&amp;tbnid=jWJuVmlcJYGvaM:&amp;tbnh=131&amp;tbnw=101&amp;prev=/images%3Fq%3Dknife%2Bthrowing%2Bcartoons%26start%3D20%26ndsp%3D20%26svnum%3D10%26um%3D1%26hl%3Den%26rls%3DGGLB,GGLB:1969-53,GGLB:en%26sa%3DN" TargetMode="External"/><Relationship Id="rId4" Type="http://schemas.openxmlformats.org/officeDocument/2006/relationships/image" Target="../media/image35.jpeg"/><Relationship Id="rId5" Type="http://schemas.openxmlformats.org/officeDocument/2006/relationships/image" Target="../media/image30.jpeg"/><Relationship Id="rId6" Type="http://schemas.openxmlformats.org/officeDocument/2006/relationships/image" Target="../media/image32.jpe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hyperlink" Target="http://images.google.com/imgres?imgurl=http://www.ueinet.com/images/pages/ElectricalSafety.jpg&amp;imgrefurl=http://www.ueinet.com/safety/&amp;h=367&amp;w=432&amp;sz=25&amp;hl=en&amp;start=26&amp;um=1&amp;tbnid=CQuZ2FmN7PUlKM:&amp;tbnh=107&amp;tbnw=126&amp;prev=/images%3Fq%3Dsafety%2Bimages%26start%3D20%26ndsp%3D20%26svnum%3D10%26um%3D1%26hl%3Den%26rls%3DGGLB,GGLB:1969-53,GGLB:en%26sa%3DN" TargetMode="External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37.wmf"/><Relationship Id="rId3" Type="http://schemas.openxmlformats.org/officeDocument/2006/relationships/image" Target="../media/image42.jpeg"/><Relationship Id="rId4" Type="http://schemas.openxmlformats.org/officeDocument/2006/relationships/image" Target="../media/image33.png"/><Relationship Id="rId5" Type="http://schemas.openxmlformats.org/officeDocument/2006/relationships/image" Target="../media/image43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hyperlink" Target="http://www.shutterstock.com/subscribe.mhtml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45.jpeg"/><Relationship Id="rId5" Type="http://schemas.openxmlformats.org/officeDocument/2006/relationships/image" Target="../media/image23.png"/><Relationship Id="rId6" Type="http://schemas.openxmlformats.org/officeDocument/2006/relationships/image" Target="../media/image46.jpeg"/><Relationship Id="rId7" Type="http://schemas.openxmlformats.org/officeDocument/2006/relationships/image" Target="../media/image47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hutterstock.com/subscribe.mhtml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45.jpeg"/><Relationship Id="rId4" Type="http://schemas.openxmlformats.org/officeDocument/2006/relationships/image" Target="../media/image23.png"/><Relationship Id="rId5" Type="http://schemas.openxmlformats.org/officeDocument/2006/relationships/image" Target="../media/image46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gif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gif"/><Relationship Id="rId3" Type="http://schemas.openxmlformats.org/officeDocument/2006/relationships/image" Target="../media/image55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7.jpeg"/><Relationship Id="rId3" Type="http://schemas.openxmlformats.org/officeDocument/2006/relationships/image" Target="../media/image59.png"/><Relationship Id="rId4" Type="http://schemas.openxmlformats.org/officeDocument/2006/relationships/image" Target="../media/image6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png"/><Relationship Id="rId4" Type="http://schemas.openxmlformats.org/officeDocument/2006/relationships/image" Target="../media/image6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68.90.81.6/ScienceTAKS/Integration/index_HOME%20PAGE.htm" TargetMode="External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shutterstock.com/subscribe.mhtml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www.shutterstock.com/subscribe.mhtml" TargetMode="External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hutterstock.com/subscribe.mhtml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shutterstock.com/subscribe.mhtml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hitworth.edu/Academic/Department/Chemistry/Classes/Images/goggles2.gif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hyperlink" Target="http://images.google.com/imgres?imgurl=http://www.tigerlair.com/hotdogandahalf/bear-goggles.jpg&amp;imgrefurl=http://www.mhd.miun.se/~stok/ghetto-gps/&amp;h=824&amp;w=942&amp;sz=127&amp;tbnid=v8HUiAYV7ZeDyM:&amp;tbnh=129&amp;tbnw=148&amp;prev=/images%3Fq%3Dsafety%2Bgoggles%26um%3D1&amp;start=3&amp;sa=X&amp;oi=images&amp;ct=image&amp;cd=3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hyperlink" Target="http://www.whitworth.edu/Academic/Department/Chemistry/Classes/Images/goggles2.gif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www.coop.uvic.ca/whmis/image/apron2.jpg&amp;imgrefurl=http://www.coop.uvic.ca/whmis/ppesym.html&amp;h=141&amp;w=150&amp;sz=5&amp;hl=en&amp;start=45&amp;um=1&amp;tbnid=duLtNRqraDvpxM:&amp;tbnh=90&amp;tbnw=96&amp;prev=/images%3Fq%3Dlab%2Bapron%2Bsymbol%26start%3D40%26ndsp%3D20%26svnum%3D10%26um%3D1%26hl%3Den%26rls%3DGGLB,GGLB:1969-53,GGLB:en%26sa%3DN" TargetMode="External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images.google.com/imgres?imgurl=http://www.foodprotection.org/images/Icons/HANDWASH_TN.GIF&amp;imgrefurl=http://www.foodprotection.org/aboutIAFP/IconMain.asp&amp;h=157&amp;w=150&amp;sz=3&amp;tbnid=z8ZMmVYM_8EpkM:&amp;tbnh=97&amp;tbnw=93&amp;prev=/images%3Fq%3Dsafety%2Bicons%26um%3D1&amp;start=2&amp;sa=X&amp;oi=images&amp;ct=image&amp;cd=2" TargetMode="External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257800" y="837720"/>
            <a:ext cx="345456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Safety and Rules of 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the Lab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8" name="Picture 9" descr="SAFETY"/>
          <p:cNvPicPr/>
          <p:nvPr/>
        </p:nvPicPr>
        <p:blipFill>
          <a:blip r:embed="rId1"/>
          <a:srcRect l="5329" t="12371" r="4006" b="7218"/>
          <a:stretch/>
        </p:blipFill>
        <p:spPr>
          <a:xfrm>
            <a:off x="5562720" y="3200400"/>
            <a:ext cx="2590560" cy="2971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Beaker.gif - (2K)"/>
          <p:cNvPicPr/>
          <p:nvPr/>
        </p:nvPicPr>
        <p:blipFill>
          <a:blip r:embed="rId2"/>
          <a:stretch/>
        </p:blipFill>
        <p:spPr>
          <a:xfrm>
            <a:off x="3962520" y="3048120"/>
            <a:ext cx="879480" cy="100008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14"/>
          <p:cNvGrpSpPr/>
          <p:nvPr/>
        </p:nvGrpSpPr>
        <p:grpSpPr>
          <a:xfrm>
            <a:off x="1295280" y="838080"/>
            <a:ext cx="3784680" cy="4876920"/>
            <a:chOff x="1295280" y="838080"/>
            <a:chExt cx="3784680" cy="4876920"/>
          </a:xfrm>
        </p:grpSpPr>
        <p:pic>
          <p:nvPicPr>
            <p:cNvPr id="101" name="Picture 7" descr="618704"/>
            <p:cNvPicPr/>
            <p:nvPr/>
          </p:nvPicPr>
          <p:blipFill>
            <a:blip r:embed="rId3"/>
            <a:stretch/>
          </p:blipFill>
          <p:spPr>
            <a:xfrm>
              <a:off x="1295280" y="838080"/>
              <a:ext cx="3784680" cy="48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Rectangle 12"/>
            <p:cNvSpPr/>
            <p:nvPr/>
          </p:nvSpPr>
          <p:spPr>
            <a:xfrm>
              <a:off x="3962520" y="5181480"/>
              <a:ext cx="914400" cy="45720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13"/>
            <p:cNvSpPr/>
            <p:nvPr/>
          </p:nvSpPr>
          <p:spPr>
            <a:xfrm>
              <a:off x="1828800" y="5334120"/>
              <a:ext cx="304920" cy="22860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4" name="Picture 16" descr="Beaker.gif - (2K)"/>
          <p:cNvPicPr/>
          <p:nvPr/>
        </p:nvPicPr>
        <p:blipFill>
          <a:blip r:embed="rId4"/>
          <a:stretch/>
        </p:blipFill>
        <p:spPr>
          <a:xfrm>
            <a:off x="3962520" y="4343400"/>
            <a:ext cx="67788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Protect Yourself</a:t>
            </a:r>
            <a:br>
              <a:rPr sz="4000"/>
            </a:b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Hand Safety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4" name="Picture 3" descr="safety7"/>
          <p:cNvPicPr/>
          <p:nvPr/>
        </p:nvPicPr>
        <p:blipFill>
          <a:blip r:embed="rId1"/>
          <a:stretch/>
        </p:blipFill>
        <p:spPr>
          <a:xfrm>
            <a:off x="1219320" y="380880"/>
            <a:ext cx="1143000" cy="1090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http://www.foodprotection.org/aboutIAFP/IconMain.asp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0120" y="304920"/>
            <a:ext cx="109512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science lab cartoons, science lab cartoon, science lab picture, science lab pictures, science lab image, science lab images, science lab illustration, science lab illustrations"/>
          <p:cNvPicPr/>
          <p:nvPr/>
        </p:nvPicPr>
        <p:blipFill>
          <a:blip r:embed="rId4"/>
          <a:stretch/>
        </p:blipFill>
        <p:spPr>
          <a:xfrm>
            <a:off x="2619360" y="1523880"/>
            <a:ext cx="4815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Sharp Object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4405320" y="-457992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0" y="-4167360"/>
          <a:ext cx="415800" cy="1524024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1524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ntique Olive"/>
                          <a:ea typeface="Times New Roman"/>
                        </a:rPr>
                        <a:t>•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lbertus Xb (W1)"/>
                          <a:ea typeface="Times New Roman"/>
                        </a:rPr>
                        <a:t>When using knifes or other sharp objects always walk with the poin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Rectangle 19"/>
          <p:cNvSpPr/>
          <p:nvPr/>
        </p:nvSpPr>
        <p:spPr>
          <a:xfrm>
            <a:off x="4405320" y="-457992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4"/>
          <p:cNvSpPr/>
          <p:nvPr/>
        </p:nvSpPr>
        <p:spPr>
          <a:xfrm>
            <a:off x="4405320" y="1807920"/>
            <a:ext cx="33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32" descr="N:\Science\A. Chavez\Integration\Science TAKS Objective 1\safety2.jpg"/>
          <p:cNvPicPr/>
          <p:nvPr/>
        </p:nvPicPr>
        <p:blipFill>
          <a:blip r:embed="rId1"/>
          <a:stretch/>
        </p:blipFill>
        <p:spPr>
          <a:xfrm>
            <a:off x="7467480" y="304920"/>
            <a:ext cx="1257480" cy="12128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8"/>
          <p:cNvSpPr/>
          <p:nvPr/>
        </p:nvSpPr>
        <p:spPr>
          <a:xfrm>
            <a:off x="1440" y="39963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64" descr="scissors"/>
          <p:cNvPicPr/>
          <p:nvPr/>
        </p:nvPicPr>
        <p:blipFill>
          <a:blip r:embed="rId2"/>
          <a:stretch/>
        </p:blipFill>
        <p:spPr>
          <a:xfrm>
            <a:off x="1143000" y="380880"/>
            <a:ext cx="1447920" cy="1089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8" descr="knive_under_leg_m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2362320"/>
            <a:ext cx="2724120" cy="2251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0" descr="23131920"/>
          <p:cNvPicPr/>
          <p:nvPr/>
        </p:nvPicPr>
        <p:blipFill>
          <a:blip r:embed="rId5"/>
          <a:stretch/>
        </p:blipFill>
        <p:spPr>
          <a:xfrm>
            <a:off x="1219320" y="5486400"/>
            <a:ext cx="1600200" cy="1049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1" descr="limitsin"/>
          <p:cNvPicPr/>
          <p:nvPr/>
        </p:nvPicPr>
        <p:blipFill>
          <a:blip r:embed="rId6"/>
          <a:srcRect l="0" t="66860" r="52231" b="0"/>
          <a:stretch/>
        </p:blipFill>
        <p:spPr>
          <a:xfrm>
            <a:off x="7543800" y="5334120"/>
            <a:ext cx="1212840" cy="12189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72"/>
          <p:cNvSpPr/>
          <p:nvPr/>
        </p:nvSpPr>
        <p:spPr>
          <a:xfrm>
            <a:off x="1066680" y="1676520"/>
            <a:ext cx="53341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cut away from fingers and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carry sharp objec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points and tips fac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 and aw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er try to catch fall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p instr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sp sharp instrumen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only by the hand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3" dur="1" fill="hold"/>
                                  <p:tgtEl>
                                    <p:spTgt spid="16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Sharp Object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405320" y="-457992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-4167360"/>
          <a:ext cx="415800" cy="1524024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1524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ntique Olive"/>
                          <a:ea typeface="Times New Roman"/>
                        </a:rPr>
                        <a:t>•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lbertus Xb (W1)"/>
                          <a:ea typeface="Times New Roman"/>
                        </a:rPr>
                        <a:t>When using knifes or other sharp objects always walk with the poin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Rectangle 12"/>
          <p:cNvSpPr/>
          <p:nvPr/>
        </p:nvSpPr>
        <p:spPr>
          <a:xfrm>
            <a:off x="4405320" y="-457992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-4167360"/>
          <a:ext cx="415800" cy="1524024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1524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ntique Olive"/>
                          <a:ea typeface="Times New Roman"/>
                        </a:rPr>
                        <a:t>•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lbertus Xb (W1)"/>
                          <a:ea typeface="Times New Roman"/>
                        </a:rPr>
                        <a:t>When using knifes or other sharp objects always walk with the poin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1"/>
          <p:cNvSpPr/>
          <p:nvPr/>
        </p:nvSpPr>
        <p:spPr>
          <a:xfrm>
            <a:off x="4405320" y="1807920"/>
            <a:ext cx="33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23"/>
          <p:cNvSpPr/>
          <p:nvPr/>
        </p:nvSpPr>
        <p:spPr>
          <a:xfrm>
            <a:off x="1440" y="39963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25" descr="playgndrubbish400"/>
          <p:cNvPicPr/>
          <p:nvPr/>
        </p:nvPicPr>
        <p:blipFill>
          <a:blip r:embed="rId1"/>
          <a:stretch/>
        </p:blipFill>
        <p:spPr>
          <a:xfrm>
            <a:off x="5681520" y="1905120"/>
            <a:ext cx="3110040" cy="3429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6" descr="N:\Science\A. Chavez\Integration\Science TAKS Objective 1\safety2.jpg"/>
          <p:cNvPicPr/>
          <p:nvPr/>
        </p:nvPicPr>
        <p:blipFill>
          <a:blip r:embed="rId2"/>
          <a:stretch/>
        </p:blipFill>
        <p:spPr>
          <a:xfrm>
            <a:off x="7467480" y="304920"/>
            <a:ext cx="1257480" cy="1212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8" descr="knife_basics_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3809880"/>
            <a:ext cx="1820880" cy="2362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9" descr="scissors"/>
          <p:cNvPicPr/>
          <p:nvPr/>
        </p:nvPicPr>
        <p:blipFill>
          <a:blip r:embed="rId5"/>
          <a:stretch/>
        </p:blipFill>
        <p:spPr>
          <a:xfrm>
            <a:off x="1143000" y="380880"/>
            <a:ext cx="1447920" cy="1089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0" descr="23131920"/>
          <p:cNvPicPr/>
          <p:nvPr/>
        </p:nvPicPr>
        <p:blipFill>
          <a:blip r:embed="rId6"/>
          <a:stretch/>
        </p:blipFill>
        <p:spPr>
          <a:xfrm>
            <a:off x="1219320" y="5486400"/>
            <a:ext cx="1600200" cy="1049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4" descr="limitsin"/>
          <p:cNvPicPr/>
          <p:nvPr/>
        </p:nvPicPr>
        <p:blipFill>
          <a:blip r:embed="rId7"/>
          <a:srcRect l="0" t="66860" r="52231" b="0"/>
          <a:stretch/>
        </p:blipFill>
        <p:spPr>
          <a:xfrm>
            <a:off x="7543800" y="5334120"/>
            <a:ext cx="1212840" cy="12189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35"/>
          <p:cNvSpPr/>
          <p:nvPr/>
        </p:nvSpPr>
        <p:spPr>
          <a:xfrm>
            <a:off x="1066680" y="1676520"/>
            <a:ext cx="51818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fy teacher if you get c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ken glass and sharp objects do not go in trash c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er will clean u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ken g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2" dur="1" fill="hold"/>
                                  <p:tgtEl>
                                    <p:spTgt spid="1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Electrical Safet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electrical plugs are to be placed into an electrical out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plug electrical equipment after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all electrical cords, wires, and applianc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way fro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9" descr="outlet_safety"/>
          <p:cNvPicPr/>
          <p:nvPr/>
        </p:nvPicPr>
        <p:blipFill>
          <a:blip r:embed="rId1"/>
          <a:stretch/>
        </p:blipFill>
        <p:spPr>
          <a:xfrm>
            <a:off x="4876920" y="1676520"/>
            <a:ext cx="3821040" cy="4238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bd06711_"/>
          <p:cNvPicPr/>
          <p:nvPr/>
        </p:nvPicPr>
        <p:blipFill>
          <a:blip r:embed="rId2"/>
          <a:stretch/>
        </p:blipFill>
        <p:spPr>
          <a:xfrm>
            <a:off x="1143000" y="380880"/>
            <a:ext cx="1295280" cy="12002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ElectricalSafet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5105520"/>
            <a:ext cx="1428480" cy="1212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symbol_safety_office2"/>
          <p:cNvPicPr/>
          <p:nvPr/>
        </p:nvPicPr>
        <p:blipFill>
          <a:blip r:embed="rId5"/>
          <a:srcRect l="42207" t="11507" r="44470" b="75344"/>
          <a:stretch/>
        </p:blipFill>
        <p:spPr>
          <a:xfrm>
            <a:off x="7391520" y="380880"/>
            <a:ext cx="1295280" cy="1187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Bulbs_flash.gif - (4K)"/>
          <p:cNvPicPr/>
          <p:nvPr/>
        </p:nvPicPr>
        <p:blipFill>
          <a:blip r:embed="rId6"/>
          <a:stretch/>
        </p:blipFill>
        <p:spPr>
          <a:xfrm>
            <a:off x="7543800" y="5334120"/>
            <a:ext cx="109368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1" dur="1" fill="hold"/>
                                  <p:tgtEl>
                                    <p:spTgt spid="1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6" descr="pki0069l"/>
          <p:cNvPicPr/>
          <p:nvPr/>
        </p:nvPicPr>
        <p:blipFill>
          <a:blip r:embed="rId1"/>
          <a:stretch/>
        </p:blipFill>
        <p:spPr>
          <a:xfrm>
            <a:off x="5334120" y="3809880"/>
            <a:ext cx="3504960" cy="27162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Physical Safet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2" name="Picture 6" descr="bd06711_"/>
          <p:cNvPicPr/>
          <p:nvPr/>
        </p:nvPicPr>
        <p:blipFill>
          <a:blip r:embed="rId2"/>
          <a:stretch/>
        </p:blipFill>
        <p:spPr>
          <a:xfrm>
            <a:off x="1143000" y="380880"/>
            <a:ext cx="1295280" cy="1200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rhan190l"/>
          <p:cNvPicPr/>
          <p:nvPr/>
        </p:nvPicPr>
        <p:blipFill>
          <a:blip r:embed="rId3"/>
          <a:stretch/>
        </p:blipFill>
        <p:spPr>
          <a:xfrm>
            <a:off x="1066680" y="1676520"/>
            <a:ext cx="2895840" cy="2541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limitsin"/>
          <p:cNvPicPr/>
          <p:nvPr/>
        </p:nvPicPr>
        <p:blipFill>
          <a:blip r:embed="rId4"/>
          <a:srcRect l="0" t="0" r="50005" b="66860"/>
          <a:stretch/>
        </p:blipFill>
        <p:spPr>
          <a:xfrm>
            <a:off x="7467480" y="304920"/>
            <a:ext cx="1257480" cy="1207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2" descr="ani-cartoon-elephant"/>
          <p:cNvPicPr/>
          <p:nvPr/>
        </p:nvPicPr>
        <p:blipFill>
          <a:blip r:embed="rId5"/>
          <a:stretch/>
        </p:blipFill>
        <p:spPr>
          <a:xfrm>
            <a:off x="1447920" y="4952880"/>
            <a:ext cx="1981080" cy="15400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3886200" y="1752480"/>
            <a:ext cx="67057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e all equipment careful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place a cord whe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one can trip over 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sh all stools in out of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7"/>
          <p:cNvSpPr/>
          <p:nvPr/>
        </p:nvSpPr>
        <p:spPr>
          <a:xfrm>
            <a:off x="1143000" y="4267080"/>
            <a:ext cx="6705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books picked up ou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of walking is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5" dur="1" fill="hold"/>
                                  <p:tgtEl>
                                    <p:spTgt spid="1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blurry big bunson"/>
          <p:cNvPicPr/>
          <p:nvPr/>
        </p:nvPicPr>
        <p:blipFill>
          <a:blip r:embed="rId1"/>
          <a:stretch/>
        </p:blipFill>
        <p:spPr>
          <a:xfrm>
            <a:off x="5334120" y="335268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Heating Safety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0" name="Picture 5" descr="stock photo : Science Laboratory Safety &amp;amp; Chemical Hazard Signs">
            <a:hlinkClick r:id="rId2"/>
          </p:cNvPr>
          <p:cNvPicPr/>
          <p:nvPr/>
        </p:nvPicPr>
        <p:blipFill>
          <a:blip r:embed="rId3"/>
          <a:srcRect l="5796" t="25534" r="74549" b="55768"/>
          <a:stretch/>
        </p:blipFill>
        <p:spPr>
          <a:xfrm>
            <a:off x="1143000" y="380880"/>
            <a:ext cx="1103400" cy="1143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safety5"/>
          <p:cNvPicPr/>
          <p:nvPr/>
        </p:nvPicPr>
        <p:blipFill>
          <a:blip r:embed="rId4"/>
          <a:stretch/>
        </p:blipFill>
        <p:spPr>
          <a:xfrm>
            <a:off x="7467480" y="304920"/>
            <a:ext cx="1285920" cy="1231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protglov"/>
          <p:cNvPicPr/>
          <p:nvPr/>
        </p:nvPicPr>
        <p:blipFill>
          <a:blip r:embed="rId5"/>
          <a:stretch/>
        </p:blipFill>
        <p:spPr>
          <a:xfrm>
            <a:off x="1219320" y="547704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labsafety_flyer_image"/>
          <p:cNvPicPr/>
          <p:nvPr/>
        </p:nvPicPr>
        <p:blipFill>
          <a:blip r:embed="rId6"/>
          <a:srcRect l="77640" t="3639" r="3051" b="81414"/>
          <a:stretch/>
        </p:blipFill>
        <p:spPr>
          <a:xfrm>
            <a:off x="7543800" y="5410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0"/>
          <p:cNvSpPr/>
          <p:nvPr/>
        </p:nvSpPr>
        <p:spPr>
          <a:xfrm>
            <a:off x="1143000" y="1676520"/>
            <a:ext cx="7467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 back hair and loo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thes when work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open fl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er look into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er as you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hea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er point the end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est tube being heat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at yourself or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2438280" y="5791320"/>
            <a:ext cx="7467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er heat in a closed co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13" descr="Chemistry_lab.gif - (5K)"/>
          <p:cNvPicPr/>
          <p:nvPr/>
        </p:nvPicPr>
        <p:blipFill>
          <a:blip r:embed="rId7"/>
          <a:stretch/>
        </p:blipFill>
        <p:spPr>
          <a:xfrm>
            <a:off x="5943600" y="1600200"/>
            <a:ext cx="190512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9" dur="1" fill="hold"/>
                                  <p:tgtEl>
                                    <p:spTgt spid="2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Heating Safety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8" name="Picture 8" descr="stock photo : Science Laboratory Safety &amp;amp; Chemical Hazard Signs">
            <a:hlinkClick r:id="rId1"/>
          </p:cNvPr>
          <p:cNvPicPr/>
          <p:nvPr/>
        </p:nvPicPr>
        <p:blipFill>
          <a:blip r:embed="rId2"/>
          <a:srcRect l="5796" t="25534" r="74549" b="55768"/>
          <a:stretch/>
        </p:blipFill>
        <p:spPr>
          <a:xfrm>
            <a:off x="1143000" y="380880"/>
            <a:ext cx="1103400" cy="1143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safety5"/>
          <p:cNvPicPr/>
          <p:nvPr/>
        </p:nvPicPr>
        <p:blipFill>
          <a:blip r:embed="rId3"/>
          <a:stretch/>
        </p:blipFill>
        <p:spPr>
          <a:xfrm>
            <a:off x="7467480" y="304920"/>
            <a:ext cx="1285920" cy="1231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protglov"/>
          <p:cNvPicPr/>
          <p:nvPr/>
        </p:nvPicPr>
        <p:blipFill>
          <a:blip r:embed="rId4"/>
          <a:stretch/>
        </p:blipFill>
        <p:spPr>
          <a:xfrm>
            <a:off x="1219320" y="547704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labsafety_flyer_image"/>
          <p:cNvPicPr/>
          <p:nvPr/>
        </p:nvPicPr>
        <p:blipFill>
          <a:blip r:embed="rId5"/>
          <a:srcRect l="77640" t="3639" r="3051" b="81414"/>
          <a:stretch/>
        </p:blipFill>
        <p:spPr>
          <a:xfrm>
            <a:off x="7543800" y="5410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2"/>
          <p:cNvSpPr/>
          <p:nvPr/>
        </p:nvSpPr>
        <p:spPr>
          <a:xfrm>
            <a:off x="1066680" y="1676520"/>
            <a:ext cx="6019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er leave a heat source unattend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ted metal and glass look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l, use tongs or glov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fore handl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place hot glasswa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ly on lab desk or i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d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15" descr="testtube-10x75"/>
          <p:cNvPicPr/>
          <p:nvPr/>
        </p:nvPicPr>
        <p:blipFill>
          <a:blip r:embed="rId6"/>
          <a:srcRect l="16663" t="0" r="0" b="6384"/>
          <a:stretch/>
        </p:blipFill>
        <p:spPr>
          <a:xfrm>
            <a:off x="5867280" y="2286000"/>
            <a:ext cx="2697120" cy="2263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9" descr="12245"/>
          <p:cNvPicPr/>
          <p:nvPr/>
        </p:nvPicPr>
        <p:blipFill>
          <a:blip r:embed="rId7"/>
          <a:stretch/>
        </p:blipFill>
        <p:spPr>
          <a:xfrm>
            <a:off x="3352680" y="4572000"/>
            <a:ext cx="281952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8" dur="1" fill="hold"/>
                                  <p:tgtEl>
                                    <p:spTgt spid="2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Chemical Safety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Rectangle 48"/>
          <p:cNvSpPr/>
          <p:nvPr/>
        </p:nvSpPr>
        <p:spPr>
          <a:xfrm>
            <a:off x="4405320" y="1807920"/>
            <a:ext cx="33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72"/>
          <p:cNvSpPr/>
          <p:nvPr/>
        </p:nvSpPr>
        <p:spPr>
          <a:xfrm>
            <a:off x="1440" y="39963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75" descr="safety6"/>
          <p:cNvPicPr/>
          <p:nvPr/>
        </p:nvPicPr>
        <p:blipFill>
          <a:blip r:embed="rId1"/>
          <a:stretch/>
        </p:blipFill>
        <p:spPr>
          <a:xfrm>
            <a:off x="7543800" y="324000"/>
            <a:ext cx="1219320" cy="1191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8" descr="Beaker_3.gif - (2K)"/>
          <p:cNvPicPr/>
          <p:nvPr/>
        </p:nvPicPr>
        <p:blipFill>
          <a:blip r:embed="rId2"/>
          <a:stretch/>
        </p:blipFill>
        <p:spPr>
          <a:xfrm>
            <a:off x="1295280" y="304920"/>
            <a:ext cx="577800" cy="118116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79"/>
          <p:cNvSpPr/>
          <p:nvPr/>
        </p:nvSpPr>
        <p:spPr>
          <a:xfrm>
            <a:off x="1905120" y="1676520"/>
            <a:ext cx="76197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all labels twice before remov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hemical from the contain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83" descr="msds-11"/>
          <p:cNvPicPr/>
          <p:nvPr/>
        </p:nvPicPr>
        <p:blipFill>
          <a:blip r:embed="rId3"/>
          <a:stretch/>
        </p:blipFill>
        <p:spPr>
          <a:xfrm>
            <a:off x="7772400" y="1676520"/>
            <a:ext cx="733320" cy="981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5" descr="lab%20pipette"/>
          <p:cNvPicPr/>
          <p:nvPr/>
        </p:nvPicPr>
        <p:blipFill>
          <a:blip r:embed="rId4"/>
          <a:stretch/>
        </p:blipFill>
        <p:spPr>
          <a:xfrm>
            <a:off x="1219320" y="2743200"/>
            <a:ext cx="3581280" cy="35416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86"/>
          <p:cNvSpPr/>
          <p:nvPr/>
        </p:nvSpPr>
        <p:spPr>
          <a:xfrm>
            <a:off x="4572000" y="2590920"/>
            <a:ext cx="5181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use the type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unt of chemica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ted to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er touch, taste,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ell a chemical unless instructed by the teac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er mix chemical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less instructed to do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88" descr="PI1477_bottles"/>
          <p:cNvPicPr/>
          <p:nvPr/>
        </p:nvPicPr>
        <p:blipFill>
          <a:blip r:embed="rId5"/>
          <a:stretch/>
        </p:blipFill>
        <p:spPr>
          <a:xfrm>
            <a:off x="1066680" y="1676520"/>
            <a:ext cx="9334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2" dur="1" fill="hold"/>
                                  <p:tgtEl>
                                    <p:spTgt spid="2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Chemical Safety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4405320" y="1807920"/>
            <a:ext cx="33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1440" y="39963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5" descr="safety6"/>
          <p:cNvPicPr/>
          <p:nvPr/>
        </p:nvPicPr>
        <p:blipFill>
          <a:blip r:embed="rId1"/>
          <a:stretch/>
        </p:blipFill>
        <p:spPr>
          <a:xfrm>
            <a:off x="7543800" y="324000"/>
            <a:ext cx="1219320" cy="1191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Beaker_3.gif - (2K)"/>
          <p:cNvPicPr/>
          <p:nvPr/>
        </p:nvPicPr>
        <p:blipFill>
          <a:blip r:embed="rId2"/>
          <a:stretch/>
        </p:blipFill>
        <p:spPr>
          <a:xfrm>
            <a:off x="1295280" y="304920"/>
            <a:ext cx="577800" cy="118116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8"/>
          <p:cNvSpPr/>
          <p:nvPr/>
        </p:nvSpPr>
        <p:spPr>
          <a:xfrm>
            <a:off x="1066680" y="1219320"/>
            <a:ext cx="5181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er chemicals careful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lids on chemical containers when not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diluting an acid, pour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id into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emicals danger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9" descr="10a_tcm2-127538"/>
          <p:cNvPicPr/>
          <p:nvPr/>
        </p:nvPicPr>
        <p:blipFill>
          <a:blip r:embed="rId3"/>
          <a:stretch/>
        </p:blipFill>
        <p:spPr>
          <a:xfrm>
            <a:off x="6858000" y="3505320"/>
            <a:ext cx="1523880" cy="152388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13"/>
          <p:cNvGrpSpPr/>
          <p:nvPr/>
        </p:nvGrpSpPr>
        <p:grpSpPr>
          <a:xfrm>
            <a:off x="1066680" y="5105520"/>
            <a:ext cx="7696440" cy="1218960"/>
            <a:chOff x="1066680" y="5105520"/>
            <a:chExt cx="7696440" cy="1218960"/>
          </a:xfrm>
        </p:grpSpPr>
        <p:pic>
          <p:nvPicPr>
            <p:cNvPr id="233" name="Picture 11" descr="stock photo : Science Laboratory Safety &amp;amp; Chemical Hazard Signs"/>
            <p:cNvPicPr/>
            <p:nvPr/>
          </p:nvPicPr>
          <p:blipFill>
            <a:blip r:embed="rId4"/>
            <a:srcRect l="0" t="49133" r="0" b="29882"/>
            <a:stretch/>
          </p:blipFill>
          <p:spPr>
            <a:xfrm>
              <a:off x="1066680" y="5105520"/>
              <a:ext cx="53341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12" descr="stock photo : Science Laboratory Safety &amp;amp; Chemical Hazard Signs"/>
            <p:cNvPicPr/>
            <p:nvPr/>
          </p:nvPicPr>
          <p:blipFill>
            <a:blip r:embed="rId5"/>
            <a:srcRect l="25943" t="71500" r="25943" b="6384"/>
            <a:stretch/>
          </p:blipFill>
          <p:spPr>
            <a:xfrm>
              <a:off x="6248520" y="5105520"/>
              <a:ext cx="2514600" cy="121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5" name="Picture 14" descr="stock photo : Science Laboratory Safety &amp;amp; Chemical Hazard Signs"/>
          <p:cNvPicPr/>
          <p:nvPr/>
        </p:nvPicPr>
        <p:blipFill>
          <a:blip r:embed="rId6"/>
          <a:srcRect l="51859" t="-3393" r="25943" b="77959"/>
          <a:stretch/>
        </p:blipFill>
        <p:spPr>
          <a:xfrm>
            <a:off x="6858000" y="1676520"/>
            <a:ext cx="1465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6" dur="1" fill="hold"/>
                                  <p:tgtEl>
                                    <p:spTgt spid="23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7" descr="guineapig_5"/>
          <p:cNvPicPr/>
          <p:nvPr/>
        </p:nvPicPr>
        <p:blipFill>
          <a:blip r:embed="rId1"/>
          <a:stretch/>
        </p:blipFill>
        <p:spPr>
          <a:xfrm>
            <a:off x="4495680" y="228600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Animal Safet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8" name="Picture 5" descr="safety4"/>
          <p:cNvPicPr/>
          <p:nvPr/>
        </p:nvPicPr>
        <p:blipFill>
          <a:blip r:embed="rId2"/>
          <a:stretch/>
        </p:blipFill>
        <p:spPr>
          <a:xfrm>
            <a:off x="7540560" y="304920"/>
            <a:ext cx="1193760" cy="12189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8"/>
          <p:cNvSpPr/>
          <p:nvPr/>
        </p:nvSpPr>
        <p:spPr>
          <a:xfrm>
            <a:off x="1066680" y="1676520"/>
            <a:ext cx="5486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handle living organisms with teacher permiss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treat liv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sms humane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h your han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handl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im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5" dur="1" fill="hold"/>
                                  <p:tgtEl>
                                    <p:spTgt spid="23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Lab Safety Ru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371600" y="1752480"/>
            <a:ext cx="4191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of this PowerPoint has been taken from the power point of…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 Baker, Adam Kueltzo, and Todd Katz….former NCHS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from Lyndon B. Johnson High School Science Web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7" descr="Lab Safety"/>
          <p:cNvPicPr/>
          <p:nvPr/>
        </p:nvPicPr>
        <p:blipFill>
          <a:blip r:embed="rId1"/>
          <a:stretch/>
        </p:blipFill>
        <p:spPr>
          <a:xfrm>
            <a:off x="5638680" y="2133720"/>
            <a:ext cx="28195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" dur="1" fill="hold"/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143000" y="1218960"/>
            <a:ext cx="37339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ect the life of all laboratory specimen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gave their life for your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5" descr="tim dead rat"/>
          <p:cNvPicPr/>
          <p:nvPr/>
        </p:nvPicPr>
        <p:blipFill>
          <a:blip r:embed="rId1"/>
          <a:stretch/>
        </p:blipFill>
        <p:spPr>
          <a:xfrm>
            <a:off x="4952880" y="175248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safety4"/>
          <p:cNvPicPr/>
          <p:nvPr/>
        </p:nvPicPr>
        <p:blipFill>
          <a:blip r:embed="rId2"/>
          <a:stretch/>
        </p:blipFill>
        <p:spPr>
          <a:xfrm>
            <a:off x="7540560" y="304920"/>
            <a:ext cx="1193760" cy="121896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6854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Treatment of Specim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4" name="Picture 10" descr="LabRats"/>
          <p:cNvPicPr/>
          <p:nvPr/>
        </p:nvPicPr>
        <p:blipFill>
          <a:blip r:embed="rId3"/>
          <a:srcRect l="0" t="7698" r="0" b="0"/>
          <a:stretch/>
        </p:blipFill>
        <p:spPr>
          <a:xfrm>
            <a:off x="1447920" y="2438280"/>
            <a:ext cx="2938320" cy="33530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Lab%20Sa2"/>
          <p:cNvPicPr/>
          <p:nvPr/>
        </p:nvPicPr>
        <p:blipFill>
          <a:blip r:embed="rId4"/>
          <a:stretch/>
        </p:blipFill>
        <p:spPr>
          <a:xfrm>
            <a:off x="4724280" y="4191120"/>
            <a:ext cx="396252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9" dur="1" fill="hold"/>
                                  <p:tgtEl>
                                    <p:spTgt spid="24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Plant Safety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7" name="Picture 19" descr="safety8"/>
          <p:cNvPicPr/>
          <p:nvPr/>
        </p:nvPicPr>
        <p:blipFill>
          <a:blip r:embed="rId1"/>
          <a:stretch/>
        </p:blipFill>
        <p:spPr>
          <a:xfrm>
            <a:off x="7543800" y="380880"/>
            <a:ext cx="1143000" cy="11034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20"/>
          <p:cNvSpPr/>
          <p:nvPr/>
        </p:nvSpPr>
        <p:spPr>
          <a:xfrm>
            <a:off x="1066680" y="1676520"/>
            <a:ext cx="5181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eat any plants in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h your hands aft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ing 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l your teacher of an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t allerg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23" descr="littleshopofhorrors2"/>
          <p:cNvPicPr/>
          <p:nvPr/>
        </p:nvPicPr>
        <p:blipFill>
          <a:blip r:embed="rId2"/>
          <a:stretch/>
        </p:blipFill>
        <p:spPr>
          <a:xfrm>
            <a:off x="1371600" y="4038480"/>
            <a:ext cx="3657600" cy="244152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24"/>
          <p:cNvSpPr/>
          <p:nvPr/>
        </p:nvSpPr>
        <p:spPr>
          <a:xfrm>
            <a:off x="5410080" y="3962520"/>
            <a:ext cx="2971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any organism, plants should be considered possibly harm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26" descr="palnts"/>
          <p:cNvPicPr/>
          <p:nvPr/>
        </p:nvPicPr>
        <p:blipFill>
          <a:blip r:embed="rId3"/>
          <a:stretch/>
        </p:blipFill>
        <p:spPr>
          <a:xfrm>
            <a:off x="5562720" y="1676520"/>
            <a:ext cx="312408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3" dur="1" fill="hold"/>
                                  <p:tgtEl>
                                    <p:spTgt spid="2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You Should Never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 store room unless given per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any chemicals from lab or store ro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uch any equipment,  chemicals, or other materials until instructed to do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5" descr="wall o chemicals"/>
          <p:cNvPicPr/>
          <p:nvPr/>
        </p:nvPicPr>
        <p:blipFill>
          <a:blip r:embed="rId1"/>
          <a:stretch/>
        </p:blipFill>
        <p:spPr>
          <a:xfrm>
            <a:off x="4952880" y="1828800"/>
            <a:ext cx="3733920" cy="41148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stock photo : Science Laboratory Safety &amp;amp; Chemical Hazard Signs"/>
          <p:cNvPicPr/>
          <p:nvPr/>
        </p:nvPicPr>
        <p:blipFill>
          <a:blip r:embed="rId2"/>
          <a:srcRect l="3718" t="71500" r="72499" b="4675"/>
          <a:stretch/>
        </p:blipFill>
        <p:spPr>
          <a:xfrm>
            <a:off x="1066680" y="304920"/>
            <a:ext cx="1143000" cy="12189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stock photo : Science Laboratory Safety &amp;amp; Chemical Hazard Signs"/>
          <p:cNvPicPr/>
          <p:nvPr/>
        </p:nvPicPr>
        <p:blipFill>
          <a:blip r:embed="rId3"/>
          <a:srcRect l="3718" t="71500" r="72499" b="4675"/>
          <a:stretch/>
        </p:blipFill>
        <p:spPr>
          <a:xfrm>
            <a:off x="7620120" y="304920"/>
            <a:ext cx="11430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2" dur="1" fill="hold"/>
                                  <p:tgtEl>
                                    <p:spTgt spid="2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You Should Never…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t or drink in the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lab glass-ware to eat or drink out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6" descr="frog Baskin robin"/>
          <p:cNvPicPr/>
          <p:nvPr/>
        </p:nvPicPr>
        <p:blipFill>
          <a:blip r:embed="rId1"/>
          <a:stretch/>
        </p:blipFill>
        <p:spPr>
          <a:xfrm>
            <a:off x="4952880" y="1752480"/>
            <a:ext cx="3733920" cy="3229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Do not eat food, drink beverages, or chew gum in the laboratory"/>
          <p:cNvPicPr/>
          <p:nvPr/>
        </p:nvPicPr>
        <p:blipFill>
          <a:blip r:embed="rId2"/>
          <a:stretch/>
        </p:blipFill>
        <p:spPr>
          <a:xfrm>
            <a:off x="990720" y="533520"/>
            <a:ext cx="1295280" cy="9712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hip_symbols1"/>
          <p:cNvPicPr/>
          <p:nvPr/>
        </p:nvPicPr>
        <p:blipFill>
          <a:blip r:embed="rId3"/>
          <a:srcRect l="75933" t="50072" r="0" b="0"/>
          <a:stretch/>
        </p:blipFill>
        <p:spPr>
          <a:xfrm>
            <a:off x="7620120" y="380880"/>
            <a:ext cx="1141200" cy="1752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1" descr="eating2"/>
          <p:cNvPicPr/>
          <p:nvPr/>
        </p:nvPicPr>
        <p:blipFill>
          <a:blip r:embed="rId4"/>
          <a:stretch/>
        </p:blipFill>
        <p:spPr>
          <a:xfrm>
            <a:off x="1066680" y="34290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6" dur="1" fill="hold"/>
                                  <p:tgtEl>
                                    <p:spTgt spid="2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5" descr="rat down back 2"/>
          <p:cNvPicPr/>
          <p:nvPr/>
        </p:nvPicPr>
        <p:blipFill>
          <a:blip r:embed="rId1"/>
          <a:stretch/>
        </p:blipFill>
        <p:spPr>
          <a:xfrm>
            <a:off x="1143000" y="3268800"/>
            <a:ext cx="3352680" cy="328428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6"/>
          <p:cNvSpPr/>
          <p:nvPr/>
        </p:nvSpPr>
        <p:spPr>
          <a:xfrm>
            <a:off x="1066680" y="1523880"/>
            <a:ext cx="3886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gage in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jok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se pl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 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You Should Never…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66" name="Picture 9" descr="sea0209l"/>
          <p:cNvPicPr/>
          <p:nvPr/>
        </p:nvPicPr>
        <p:blipFill>
          <a:blip r:embed="rId2"/>
          <a:stretch/>
        </p:blipFill>
        <p:spPr>
          <a:xfrm>
            <a:off x="4941720" y="1676520"/>
            <a:ext cx="3745080" cy="48006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stock photo : Science Laboratory Safety &amp;amp; Chemical Hazard Signs"/>
          <p:cNvPicPr/>
          <p:nvPr/>
        </p:nvPicPr>
        <p:blipFill>
          <a:blip r:embed="rId3"/>
          <a:srcRect l="3718" t="71500" r="72499" b="4675"/>
          <a:stretch/>
        </p:blipFill>
        <p:spPr>
          <a:xfrm>
            <a:off x="1066680" y="304920"/>
            <a:ext cx="1143000" cy="12189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1" descr="stock photo : Science Laboratory Safety &amp;amp; Chemical Hazard Signs"/>
          <p:cNvPicPr/>
          <p:nvPr/>
        </p:nvPicPr>
        <p:blipFill>
          <a:blip r:embed="rId4"/>
          <a:srcRect l="3718" t="71500" r="72499" b="4675"/>
          <a:stretch/>
        </p:blipFill>
        <p:spPr>
          <a:xfrm>
            <a:off x="7543800" y="304920"/>
            <a:ext cx="11430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1" dur="1" fill="hold"/>
                                  <p:tgtEl>
                                    <p:spTgt spid="2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  <p:animClr clrSpc="rgb">
                                <p:cBhvr>
                                  <p:cTn id="432" dur="1" fill="hold"/>
                                  <p:tgtEl>
                                    <p:spTgt spid="2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  <p:animClr clrSpc="rgb">
                                <p:cBhvr>
                                  <p:cTn id="433" dur="1" fill="hold"/>
                                  <p:tgtEl>
                                    <p:spTgt spid="2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  <p:animClr clrSpc="rgb">
                                <p:cBhvr>
                                  <p:cTn id="434" dur="1" fill="hold"/>
                                  <p:tgtEl>
                                    <p:spTgt spid="26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In case of an emergency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48320" y="175248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e locations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 extinguis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 blan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h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yewas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aid kit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spill a harmful chemical on yourself or in your eyes, start rinsing  immediately and send your partner to get teacher’s he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5" descr="fire blanket"/>
          <p:cNvPicPr/>
          <p:nvPr/>
        </p:nvPicPr>
        <p:blipFill>
          <a:blip r:embed="rId1"/>
          <a:stretch/>
        </p:blipFill>
        <p:spPr>
          <a:xfrm>
            <a:off x="1066680" y="1676520"/>
            <a:ext cx="3514680" cy="3657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symbol_em-shower1_sm"/>
          <p:cNvPicPr/>
          <p:nvPr/>
        </p:nvPicPr>
        <p:blipFill>
          <a:blip r:embed="rId2"/>
          <a:stretch/>
        </p:blipFill>
        <p:spPr>
          <a:xfrm>
            <a:off x="7872480" y="380880"/>
            <a:ext cx="814320" cy="1143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fireextinguisher"/>
          <p:cNvPicPr/>
          <p:nvPr/>
        </p:nvPicPr>
        <p:blipFill>
          <a:blip r:embed="rId3"/>
          <a:stretch/>
        </p:blipFill>
        <p:spPr>
          <a:xfrm>
            <a:off x="1066680" y="457200"/>
            <a:ext cx="625680" cy="10666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" descr="image38"/>
          <p:cNvPicPr/>
          <p:nvPr/>
        </p:nvPicPr>
        <p:blipFill>
          <a:blip r:embed="rId4"/>
          <a:stretch/>
        </p:blipFill>
        <p:spPr>
          <a:xfrm>
            <a:off x="7238880" y="2438280"/>
            <a:ext cx="1549440" cy="22100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1" descr="LSS_SafetyShowersEyeWashes"/>
          <p:cNvPicPr/>
          <p:nvPr/>
        </p:nvPicPr>
        <p:blipFill>
          <a:blip r:embed="rId5"/>
          <a:stretch/>
        </p:blipFill>
        <p:spPr>
          <a:xfrm>
            <a:off x="1066680" y="51055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  <p:animClr clrSpc="rgb">
                                <p:cBhvr>
                                  <p:cTn id="4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  <p:animClr clrSpc="rgb"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  <p:animClr clrSpc="rgb">
                                <p:cBhvr>
                                  <p:cTn id="4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3" dur="1" fill="hold"/>
                                  <p:tgtEl>
                                    <p:spTgt spid="27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Remember to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581280" y="4572000"/>
            <a:ext cx="5181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4" descr="Professor_3"/>
          <p:cNvPicPr/>
          <p:nvPr/>
        </p:nvPicPr>
        <p:blipFill>
          <a:blip r:embed="rId1"/>
          <a:stretch/>
        </p:blipFill>
        <p:spPr>
          <a:xfrm>
            <a:off x="1066680" y="1676520"/>
            <a:ext cx="2494080" cy="32004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5"/>
          <p:cNvSpPr/>
          <p:nvPr/>
        </p:nvSpPr>
        <p:spPr>
          <a:xfrm>
            <a:off x="3581280" y="1600200"/>
            <a:ext cx="5257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ay at your work stati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intain a clean work are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ad and follow all direc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ort any spills, accidents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 injury to the teacher immediate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ean and put away all equipment at the end of th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b perio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spose of waste products according to instru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7" dur="1" fill="hold"/>
                                  <p:tgtEl>
                                    <p:spTgt spid="27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81" name="Picture 6" descr="labkidsmistakes"/>
          <p:cNvPicPr/>
          <p:nvPr/>
        </p:nvPicPr>
        <p:blipFill>
          <a:blip r:embed="rId1"/>
          <a:stretch/>
        </p:blipFill>
        <p:spPr>
          <a:xfrm>
            <a:off x="1066680" y="304920"/>
            <a:ext cx="5715000" cy="3886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man"/>
          <p:cNvPicPr/>
          <p:nvPr/>
        </p:nvPicPr>
        <p:blipFill>
          <a:blip r:embed="rId2"/>
          <a:stretch/>
        </p:blipFill>
        <p:spPr>
          <a:xfrm>
            <a:off x="6400800" y="3809880"/>
            <a:ext cx="2352600" cy="2743200"/>
          </a:xfrm>
          <a:prstGeom prst="rect">
            <a:avLst/>
          </a:prstGeom>
          <a:ln w="0">
            <a:noFill/>
          </a:ln>
        </p:spPr>
      </p:pic>
      <p:sp>
        <p:nvSpPr>
          <p:cNvPr id="283" name="WordArt 9"/>
          <p:cNvSpPr txBox="1"/>
          <p:nvPr/>
        </p:nvSpPr>
        <p:spPr>
          <a:xfrm>
            <a:off x="1219320" y="4572000"/>
            <a:ext cx="49528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o Do It Righ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Safety Symbol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9" name="Picture 5" descr="safety pictures"/>
          <p:cNvPicPr/>
          <p:nvPr/>
        </p:nvPicPr>
        <p:blipFill>
          <a:blip r:embed="rId1"/>
          <a:stretch/>
        </p:blipFill>
        <p:spPr>
          <a:xfrm>
            <a:off x="1219320" y="1905120"/>
            <a:ext cx="3713040" cy="3886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Biohazar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0120" y="411120"/>
            <a:ext cx="990360" cy="9511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5029200" y="1828800"/>
            <a:ext cx="3733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 safety symb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ppear in your laboratory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will alert you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ossible dan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will remind you to work carefu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" dur="1" fill="hold"/>
                                  <p:tgtEl>
                                    <p:spTgt spid="11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Use Your Hea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23920" y="1752120"/>
            <a:ext cx="3962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rcise Caution and Good Ju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all instructions given by the teac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fy the teacher immediately regarding any accident or unsafe are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10" descr="far-side-hcl"/>
          <p:cNvPicPr/>
          <p:nvPr/>
        </p:nvPicPr>
        <p:blipFill>
          <a:blip r:embed="rId1"/>
          <a:srcRect l="5824" t="3072" r="4817" b="3081"/>
          <a:stretch/>
        </p:blipFill>
        <p:spPr>
          <a:xfrm>
            <a:off x="1066680" y="1676520"/>
            <a:ext cx="3619800" cy="4800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stock photo : Science Laboratory Safety &amp;amp; Chemical Hazard Signs">
            <a:hlinkClick r:id="rId2"/>
          </p:cNvPr>
          <p:cNvPicPr/>
          <p:nvPr/>
        </p:nvPicPr>
        <p:blipFill>
          <a:blip r:embed="rId3"/>
          <a:srcRect l="51859" t="49384" r="27119" b="30284"/>
          <a:stretch/>
        </p:blipFill>
        <p:spPr>
          <a:xfrm>
            <a:off x="7543800" y="304920"/>
            <a:ext cx="1157400" cy="121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stock photo : Science Laboratory Safety &amp;amp; Chemical Hazard Signs">
            <a:hlinkClick r:id="rId4"/>
          </p:cNvPr>
          <p:cNvPicPr/>
          <p:nvPr/>
        </p:nvPicPr>
        <p:blipFill>
          <a:blip r:embed="rId5"/>
          <a:srcRect l="3718" t="71500" r="72499" b="4675"/>
          <a:stretch/>
        </p:blipFill>
        <p:spPr>
          <a:xfrm>
            <a:off x="1066680" y="304920"/>
            <a:ext cx="1143000" cy="1218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Report all incidents and injuiries immediately"/>
          <p:cNvPicPr/>
          <p:nvPr/>
        </p:nvPicPr>
        <p:blipFill>
          <a:blip r:embed="rId6"/>
          <a:stretch/>
        </p:blipFill>
        <p:spPr>
          <a:xfrm>
            <a:off x="6629400" y="4952880"/>
            <a:ext cx="180036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" dur="1" fill="hold"/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Use Your Hea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4920" y="175212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lab instructions ahead of ti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follow lab procedures exa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er do an unauthorized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stock photo : Science Laboratory Safety &amp;amp; Chemical Hazard Signs">
            <a:hlinkClick r:id="rId1"/>
          </p:cNvPr>
          <p:cNvPicPr/>
          <p:nvPr/>
        </p:nvPicPr>
        <p:blipFill>
          <a:blip r:embed="rId2"/>
          <a:srcRect l="51859" t="49384" r="27119" b="30284"/>
          <a:stretch/>
        </p:blipFill>
        <p:spPr>
          <a:xfrm>
            <a:off x="7543800" y="304920"/>
            <a:ext cx="1157400" cy="1218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stock photo : Science Laboratory Safety &amp;amp; Chemical Hazard Signs">
            <a:hlinkClick r:id="rId3"/>
          </p:cNvPr>
          <p:cNvPicPr/>
          <p:nvPr/>
        </p:nvPicPr>
        <p:blipFill>
          <a:blip r:embed="rId4"/>
          <a:srcRect l="3718" t="71500" r="72499" b="4675"/>
          <a:stretch/>
        </p:blipFill>
        <p:spPr>
          <a:xfrm>
            <a:off x="1066680" y="304920"/>
            <a:ext cx="1143000" cy="1218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lab12ben"/>
          <p:cNvPicPr/>
          <p:nvPr/>
        </p:nvPicPr>
        <p:blipFill>
          <a:blip r:embed="rId5"/>
          <a:stretch/>
        </p:blipFill>
        <p:spPr>
          <a:xfrm>
            <a:off x="2057400" y="3519360"/>
            <a:ext cx="49528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" dur="1" fill="hold"/>
                                  <p:tgtEl>
                                    <p:spTgt spid="1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Protect Yourself</a:t>
            </a:r>
            <a:br>
              <a:rPr sz="4000"/>
            </a:b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Eye Safety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51818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r safety goggles when working with chemicals, flames, or heating de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if possibility of flying debr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6" descr="goggles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10280" y="457200"/>
            <a:ext cx="1762200" cy="849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galsseson3"/>
          <p:cNvPicPr/>
          <p:nvPr/>
        </p:nvPicPr>
        <p:blipFill>
          <a:blip r:embed="rId3"/>
          <a:srcRect l="0" t="0" r="0" b="608"/>
          <a:stretch/>
        </p:blipFill>
        <p:spPr>
          <a:xfrm>
            <a:off x="1143000" y="3429000"/>
            <a:ext cx="4191120" cy="3124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safety1"/>
          <p:cNvPicPr/>
          <p:nvPr/>
        </p:nvPicPr>
        <p:blipFill>
          <a:blip r:embed="rId4"/>
          <a:stretch/>
        </p:blipFill>
        <p:spPr>
          <a:xfrm>
            <a:off x="1066680" y="304920"/>
            <a:ext cx="1295640" cy="1247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http://www.mhd.miun.se/~stok/ghetto-gps/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72200" y="1752480"/>
            <a:ext cx="2476440" cy="21592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2"/>
          <p:cNvSpPr/>
          <p:nvPr/>
        </p:nvSpPr>
        <p:spPr>
          <a:xfrm>
            <a:off x="5410080" y="3886200"/>
            <a:ext cx="3505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wear contact lenses let your teacher kno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5" dur="1" fill="hold"/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Protect Yourself</a:t>
            </a:r>
            <a:br>
              <a:rPr sz="4000"/>
            </a:b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Eye Safety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32" name="Object 3"/>
          <p:cNvGraphicFramePr/>
          <p:nvPr/>
        </p:nvGraphicFramePr>
        <p:xfrm>
          <a:off x="1066680" y="1828800"/>
          <a:ext cx="373392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37339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29200" y="12193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ase of emergency in which a chemical goes into one’s eye, use the eyewash s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goggles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10280" y="457200"/>
            <a:ext cx="1762200" cy="849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eyewashpractive"/>
          <p:cNvPicPr/>
          <p:nvPr/>
        </p:nvPicPr>
        <p:blipFill>
          <a:blip r:embed="rId5"/>
          <a:stretch/>
        </p:blipFill>
        <p:spPr>
          <a:xfrm>
            <a:off x="5105520" y="37339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9"/>
          <p:cNvSpPr/>
          <p:nvPr/>
        </p:nvSpPr>
        <p:spPr>
          <a:xfrm>
            <a:off x="5029200" y="1752480"/>
            <a:ext cx="3733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sh in water for 15 mins. and notify the teacher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0" descr="LSS_SafetyShowersEyeWashes"/>
          <p:cNvPicPr/>
          <p:nvPr/>
        </p:nvPicPr>
        <p:blipFill>
          <a:blip r:embed="rId6"/>
          <a:stretch/>
        </p:blipFill>
        <p:spPr>
          <a:xfrm>
            <a:off x="1143000" y="3808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1" dur="1" fill="hold"/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Protect Yourself</a:t>
            </a:r>
            <a:br>
              <a:rPr sz="4000"/>
            </a:b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Proper Attire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52880" y="1676160"/>
            <a:ext cx="37339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all long hai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d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wear loose clothing that could catch on fi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6" descr="Amy%20&amp;%20Shower"/>
          <p:cNvPicPr/>
          <p:nvPr/>
        </p:nvPicPr>
        <p:blipFill>
          <a:blip r:embed="rId1"/>
          <a:stretch/>
        </p:blipFill>
        <p:spPr>
          <a:xfrm>
            <a:off x="1219320" y="16765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9"/>
          <p:cNvSpPr/>
          <p:nvPr/>
        </p:nvSpPr>
        <p:spPr>
          <a:xfrm>
            <a:off x="1143000" y="5181480"/>
            <a:ext cx="3733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ot wear that completely covers the foot i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0" descr="shoesnoshoes"/>
          <p:cNvPicPr/>
          <p:nvPr/>
        </p:nvPicPr>
        <p:blipFill>
          <a:blip r:embed="rId2"/>
          <a:stretch/>
        </p:blipFill>
        <p:spPr>
          <a:xfrm>
            <a:off x="4876920" y="3962520"/>
            <a:ext cx="3504960" cy="2628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apron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43800" y="304920"/>
            <a:ext cx="1143000" cy="1218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6" descr="protglov"/>
          <p:cNvPicPr/>
          <p:nvPr/>
        </p:nvPicPr>
        <p:blipFill>
          <a:blip r:embed="rId5"/>
          <a:stretch/>
        </p:blipFill>
        <p:spPr>
          <a:xfrm>
            <a:off x="1143000" y="30492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0" dur="1" fill="hold"/>
                                  <p:tgtEl>
                                    <p:spTgt spid="1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Protect Yourself</a:t>
            </a:r>
            <a:br>
              <a:rPr sz="4000"/>
            </a:b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Hand Safety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7" name="Picture 58" descr="safety7"/>
          <p:cNvPicPr/>
          <p:nvPr/>
        </p:nvPicPr>
        <p:blipFill>
          <a:blip r:embed="rId1"/>
          <a:stretch/>
        </p:blipFill>
        <p:spPr>
          <a:xfrm>
            <a:off x="1219320" y="380880"/>
            <a:ext cx="1143000" cy="1090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0" descr="http://www.foodprotection.org/aboutIAFP/IconMain.asp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0120" y="304920"/>
            <a:ext cx="109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1" descr="washhands"/>
          <p:cNvPicPr/>
          <p:nvPr/>
        </p:nvPicPr>
        <p:blipFill>
          <a:blip r:embed="rId4"/>
          <a:stretch/>
        </p:blipFill>
        <p:spPr>
          <a:xfrm>
            <a:off x="5943600" y="289548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62"/>
          <p:cNvSpPr/>
          <p:nvPr/>
        </p:nvSpPr>
        <p:spPr>
          <a:xfrm>
            <a:off x="1143000" y="1828800"/>
            <a:ext cx="7620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chemical spills on your skin, notify the teacher and rinse with water for 15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h hands after every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64" descr="mad%20scientist"/>
          <p:cNvPicPr/>
          <p:nvPr/>
        </p:nvPicPr>
        <p:blipFill>
          <a:blip r:embed="rId5"/>
          <a:stretch/>
        </p:blipFill>
        <p:spPr>
          <a:xfrm>
            <a:off x="1344600" y="3276720"/>
            <a:ext cx="2254320" cy="31240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5"/>
          <p:cNvSpPr/>
          <p:nvPr/>
        </p:nvSpPr>
        <p:spPr>
          <a:xfrm>
            <a:off x="3581280" y="3352680"/>
            <a:ext cx="243864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e glassware, sharp tools and heated containers carefu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9" dur="1" fill="hold"/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1T17:50:18Z</dcterms:created>
  <dc:creator>Unit 5</dc:creator>
  <dc:description/>
  <dc:language>en-US</dc:language>
  <cp:lastModifiedBy>Adam Goosby</cp:lastModifiedBy>
  <dcterms:modified xsi:type="dcterms:W3CDTF">2010-08-02T00:55:03Z</dcterms:modified>
  <cp:revision>34</cp:revision>
  <dc:subject>Biology</dc:subject>
  <dc:title>Lab Safety</dc:title>
</cp:coreProperties>
</file>